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76F-A793-4F9C-8B84-CBED9221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DC8-CA2C-444C-8864-402DD315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200-2399-4F89-9485-FB073259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0F6-996D-49D3-9BE8-9A254DCA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6239-1A53-4D5C-ACEA-17F9D2C3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2D56-6813-48AA-B36C-93F50349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C77C-A637-4644-B8EB-E461CA36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0C55-7BA7-4BEF-9FB9-D66D5AE3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9B5D-2C5F-4818-AAE4-98B5399A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0115-A309-4328-85D4-FFCF6492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3CEC-E39D-45B1-94F8-185ECA61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EA4-18FE-4B53-A192-3C160D3B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5294-7A6A-45B8-838A-9E2F46B0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3A2E-B1C1-4380-9FD4-CE4501E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628D-CCF8-474E-A795-8BD7642B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5B38-A0ED-4C25-A3E1-96B64FC6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C44C-FCB9-4030-B873-E1D434F2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CBB-B3C5-4FA1-AA80-38AFDC43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CC8-947F-425F-B0B0-F65699CE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77B-76C3-4B0E-94CA-F782B0BE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9CF-324A-4EE3-A148-96DD0AD7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E29-EC3E-4FFB-AB79-D225EB2D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9C3-5658-4E9F-8849-4B7FD347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BD6-D3B4-47DA-BA19-EEADFF8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0"/>
            <a:ext cx="8837640" cy="6856560"/>
            <a:chOff x="304920" y="0"/>
            <a:chExt cx="8837640" cy="6856560"/>
          </a:xfrm>
        </p:grpSpPr>
        <p:sp>
          <p:nvSpPr>
            <p:cNvPr id="1" name=""/>
            <p:cNvSpPr/>
            <p:nvPr/>
          </p:nvSpPr>
          <p:spPr>
            <a:xfrm>
              <a:off x="609480" y="0"/>
              <a:ext cx="7925040" cy="68565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920" y="304920"/>
              <a:ext cx="8837640" cy="152280"/>
            </a:xfrm>
            <a:prstGeom prst="rect">
              <a:avLst/>
            </a:pr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62120" y="0"/>
              <a:ext cx="196560" cy="19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EDBE-1FC2-446C-BCD8-7E4806325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0"/>
            <a:ext cx="8837640" cy="6856560"/>
            <a:chOff x="304920" y="0"/>
            <a:chExt cx="8837640" cy="6856560"/>
          </a:xfrm>
        </p:grpSpPr>
        <p:sp>
          <p:nvSpPr>
            <p:cNvPr id="46" name=""/>
            <p:cNvSpPr/>
            <p:nvPr/>
          </p:nvSpPr>
          <p:spPr>
            <a:xfrm>
              <a:off x="609480" y="1676520"/>
              <a:ext cx="7925040" cy="51800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3581280"/>
              <a:ext cx="8837640" cy="152640"/>
            </a:xfrm>
            <a:prstGeom prst="rect">
              <a:avLst/>
            </a:pr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0"/>
              <a:ext cx="196560" cy="19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10DF-5301-4A87-8704-AF28A490E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Szkodliwe  oddziaływanie  komputerów  </a:t>
            </a:r>
            <a:br>
              <a:rPr sz="4800"/>
            </a:b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na zdrowie  człowieka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racowa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gusław Sikor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SR CKP Grod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Pole elektryczne wokół urządzeń codziennego użytku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43000" y="1981080"/>
          <a:ext cx="7315200" cy="449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981080"/>
                    <a:ext cx="73152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Pole magnetyczne wokół urządzeń codziennego użytku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1981080"/>
          <a:ext cx="723924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981080"/>
                    <a:ext cx="7239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Promieniowanie elektromagnetyczne ?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zdrażnienie, depres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rata sił i energi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rażnienia skóry i alergi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legliwości menstruacyjne i problemy z potencj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Dolegliwości oczu: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eczenie, zaczerwienienie, stany zapal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czucie mocnego ucisku na gałki oczne oraz zaniki ostrości widzeni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spół suchych ocz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kłócenie widzenia dwuoczne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Zapobieganie dolegliwościom oczu: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izyty u okulis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mniejszyć intensywność prac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ćwiczenia relaksa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pwiednie oświetl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172120" y="1981080"/>
            <a:ext cx="2752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Dopuszczalne pole elektryczne i magnetyczne 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w odległości 50 cm od monitora</a:t>
            </a:r>
            <a:br>
              <a:rPr sz="3600"/>
            </a:b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2208240"/>
          <a:ext cx="7753320" cy="364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08240"/>
                    <a:ext cx="775332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Organizacja stanowiska pracy: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839960" y="1616040"/>
            <a:ext cx="555156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lvl="4" marL="174852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/3 pracowników mających kontakt z monitorami cierpi na bóle głowy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0 % uskarża się na bóle pleców, a 40% na dolegliwości oczu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stopniowe pogarszanie się wzro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63300"/>
                </a:solidFill>
                <a:latin typeface="Times New Roman"/>
              </a:rPr>
              <a:t>Syndrom RSI </a:t>
            </a:r>
            <a:br>
              <a:rPr sz="4400"/>
            </a:br>
            <a:r>
              <a:rPr b="1" lang="pl-PL" sz="4400" spc="-1" strike="noStrike">
                <a:solidFill>
                  <a:srgbClr val="663300"/>
                </a:solidFill>
                <a:latin typeface="Times New Roman"/>
              </a:rPr>
              <a:t>(Repetitive Strain Injury).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467480" cy="4114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f3e9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spół urazów wynikającyc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 chronicznego przeciążenia, które objawiają się bólami ramion, przedramion, przegubów i dłoni, których przyczyny mogą kumulować się, nie dając znać o sobie przez wiele l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8480" y="2216160"/>
            <a:ext cx="3873240" cy="4330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l-PL" sz="3200" spc="-1" strike="noStrike">
                <a:solidFill>
                  <a:srgbClr val="663300"/>
                </a:solidFill>
                <a:latin typeface="Times New Roman"/>
              </a:rPr>
              <a:t>Zaleca się regularne, np. 3-minutowe przerwy po każdej godzinie pracy z komputerem, stosując ćwiczenia relaksacyjne dla rąk</a:t>
            </a:r>
            <a:r>
              <a:rPr b="0" lang="pl-PL" sz="2800" spc="-1" strike="noStrike">
                <a:solidFill>
                  <a:srgbClr val="6633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0" b="1624"/>
          <a:stretch/>
        </p:blipFill>
        <p:spPr>
          <a:xfrm>
            <a:off x="1449360" y="2286000"/>
            <a:ext cx="2513160" cy="4038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zyj dłonie na stole, palce zwróc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kierunku ciał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odchylaj się delikatnie aż do całkowitego napięcia mięśni rąk. Wytrzymaj kilka sekund i wróć do pozycji wyjściowe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Nieprawidłowa postawa i jej następstwa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óle pleców, szyi, okolicy łopatek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zw. sztywniejące nadgarstk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aburzenia krążenia kr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Prawidłowa postawa podczas korzystania z komputera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10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Niebezpieczne związki wydzielane przez sprzęt</a:t>
            </a: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komputerowy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len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fur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oz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Zapobiegani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ularne wietrzenie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mieszcze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743200"/>
            <a:ext cx="0" cy="380988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Promieniowanie wokół monitora: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lektromagnetyczne zmienne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 o ekstremalnie małej częstotliwości (ELF - Extremly Low Frequency)  5 Hz - 2 K Hz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twarzane przez zasilacz i w układzie odchylania pionoweg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 o bardzo małej częstotliwości (VLF - Very Low Frequency) 2 k Hz - 400 k Hz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twarzane przez transformator oraz cewki odchylania poziomego wiązki elektron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ff66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lektrostatyczn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0 H z), którego źródłem jest kineskop monit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ESTAWIENIE NAJWIĘKSZYCH WARTOŚCI POMIARÓW  PROMIENIOWANIA MONITORÓW DOSTĘPNYCH NA RYNKU</a:t>
            </a:r>
            <a:br>
              <a:rPr sz="2000"/>
            </a:b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 NORMAMI NIEMIECKIEGO MINISTERSTWA ZDROWIA (BGA)</a:t>
            </a:r>
            <a:br>
              <a:rPr sz="2000"/>
            </a:b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714760"/>
          <a:ext cx="7753320" cy="26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714760"/>
                    <a:ext cx="775332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1T15:27:32Z</dcterms:created>
  <dc:creator>Krzysiek Sikorski</dc:creator>
  <dc:description/>
  <dc:language>en-US</dc:language>
  <cp:lastModifiedBy>BS</cp:lastModifiedBy>
  <dcterms:modified xsi:type="dcterms:W3CDTF">2001-03-22T10:48:01Z</dcterms:modified>
  <cp:revision>18</cp:revision>
  <dc:subject/>
  <dc:title>Szkodliwe  oddziaływanie  komputerów  na  zdrowie  człowieka</dc:title>
</cp:coreProperties>
</file>